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57E-0C2C-403C-A5CF-7983721C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793-FF7A-47D2-B2F9-FC33795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34E94-4D4F-4A2D-9CC6-BC4CA326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54CB4-1F75-48A9-B257-B4F47E8E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5A630-41D4-45A7-A8EE-36CB862A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62906-4AF6-4E4C-94F8-E642205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DC782-D3E2-4F33-9FCD-0DC736D8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67512-F138-4BF5-B4CA-B6CD545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6A932-24B2-4F3E-8003-4258DE3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EEEAF-474D-47A4-A936-DD232714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5F1DD-757E-4DA2-B949-733F19E8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793E5-4703-4744-869F-22E3846D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ADD-12F2-43D2-A42D-FA7AF2B7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3B316-6221-4F53-987E-6E32E27C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E4CE6-46D0-4147-9FC0-3E8F173D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B0694-2F65-48EB-9A2E-5797ECD0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1B77B-C0AE-4426-A378-D4B090D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B621F-1DD2-437A-BC74-FA37A954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43A0F-D8B7-49EF-874C-8EDD0782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783E4-6F86-4FAC-B3FB-E119E33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6BBB1-E337-46B6-BD2C-7F2C74E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5771A-D56E-44B7-B9A4-84D07A8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D8D59-9B8F-4863-9214-C97D17B5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8A7-102D-4516-BA95-1FDB34D6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947F3-9BA3-400A-B7EE-D3140025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8415E-54E9-4D3E-AFF3-1EEEE159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21128-9F02-420F-91CB-8FFD8E27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3982F-E783-4388-A228-2C20D84D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18D63-E1AB-4582-8611-180B1D6B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E0C38-5B79-4B10-A552-BF3A8798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F7CD0-B0BB-449B-ADD4-29AB8643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CB435-C308-4157-891E-12E853C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540E3-7346-41FC-8EBE-3C3A9A7B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F7E59-E49A-4640-9327-75012B73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CF8D-2935-4EC2-9598-E133331D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4080F-3D53-4302-94E5-255C9287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C2FCF-7024-45EF-AD58-DA3916B0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3C751-2F24-4999-9B9B-2FCBDF7E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EA410-2CD3-40AE-9D04-3181304A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0EE39-12A1-4EBC-A5FE-5F52C739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0F9A7-756A-4DDC-BAA6-5C1E5B05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2F00D-3D84-4B83-9CDA-C4710A4F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161E9-0290-4C92-BCAF-8B5E3911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B4C8E-FBCA-4228-A4FB-33B19F1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1CFAD-6F5B-4B80-A722-3C89B6B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FDC-AA1B-4CC6-BA14-31356543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9D835-1DEB-4D44-8265-0F21CF8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8ADD6-C70D-401A-A46A-D853F5AB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EC1B3-B4A5-4DA2-8E4B-5E3F10C0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E9AD0-1BD5-43B6-B225-0BBFF5A5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25AF2-9094-42C7-AB41-676EE44D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24F5-2092-468E-B8B1-556A84B3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E926-D84D-4406-90D9-5885996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59C5-2E48-47CA-A344-9EE77B13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3B71-07F8-47BF-8A9A-9AF49C70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BE18-B1AF-499E-94F3-8F21AB3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AE4-EA97-43AA-A096-6F0C011C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D3D6-833E-4A80-8B57-B434C91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E779-DAB7-49F7-9763-800EFC0D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63DB-BDC9-43B7-87A5-AAFF3FB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9694-0844-4DCA-A2F1-AF74C7B1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C32-59E8-4C7E-803C-554B027E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0AC0-2321-4482-8D19-F3B49436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FE4E-B9D2-49F8-BF80-A251595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6909-F652-44D4-BB67-E162D525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B1A2-F9DE-441C-9C46-04AD36A3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5E9A-7AAD-4936-9B3F-E6AA6823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F98-D12B-40B2-BE8D-F9AA31C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8C9F-16E3-4023-835F-F2529256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9386-DF29-46B5-9D3A-CE4E114C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FC60-03D1-4937-B73B-335EF6C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7A3C-E274-42D7-B5C1-A7AF127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6D2D-3D72-4927-9090-3AB2310E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6691-8286-4C19-865C-C8559B76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12C5-D929-4375-8859-72520190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DAF6-48C7-4C5F-9A97-9DD12377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1407A-6C91-46C5-9FC4-9E8D418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4ED0-8949-4377-B0E3-6D1273AD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4C9-3793-4B3A-9C8E-54F9FE5A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D389-5789-40E3-A6C3-8F0A2134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A8AE2-7AD4-4D08-ADC3-653CF57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4D1D-A778-4F6D-A9F7-DD1E91BE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E682-58D8-4962-B68B-63E296EA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704F-5CA5-42A4-9BBC-29164C67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2F00-1ABC-4914-8F1A-567C357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4EC0-703D-4284-8B2B-D706C7D3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4CC3-EE17-448E-922E-43DBBEC1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BD6F-95D3-48E0-9DB6-9A7F9B38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C1DE-CD66-46A8-999F-1C96B7F3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99B-5A2A-40D0-ABDC-E8EBCB1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8E58-ADEE-45D3-A622-649A4D58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8D9C-A9B1-4C17-A560-07DE5732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F5EA7-AD66-44EF-8D31-878F7A5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29AF-04BE-4D8F-A563-29C8AB7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EE18-1D8C-4675-ACA1-23F6696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FC1F-3D96-47A8-AE5A-405FB39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B4B1-8652-4203-9AF9-C5E3898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EFE5-6239-4C8A-97BD-CBBC07C8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3E2D-4EF2-4B11-A302-10609D50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5BD83-6C10-4EEE-ABDF-1DB99629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88F-BD56-4AC1-8C7D-DC186B35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82F27-BC9A-4C9E-AD0F-3E300F72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B1B6-E812-4510-865B-1109A35B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4809F-D7B4-4CE0-8B8E-E5172748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13290-C8C8-4E2B-B91D-49CBD169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B29C-48B1-44D0-8274-5C816287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06F48-6EC5-4E6B-B83C-EA3928DB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E8F34-15C1-4789-A4A6-13920487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5320-4E35-4D22-A169-0A7E6C23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1E6A-AAD3-40B5-AA82-C5499A8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93CCF-FFAD-445F-AD0F-E022128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47A-80E8-48C2-8B9B-4AEC06E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66D18-4017-4B09-A3EE-347FBBF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4F0AF-8555-45D4-8263-2AAB5201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AF03-891F-4A5F-AA4B-2CD4451F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5C5F3-D44C-4092-88BC-B16BF246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8021-F83E-4122-B0CA-9A07F494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E2978-6C96-4D05-A2E9-89F82229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C5A92-6433-4957-B1DA-80C9F3DD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4DE3D-BB7A-4F0B-87E7-6ACBACE6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8C246-129D-4912-8BC9-307BFE00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128D-05E5-4527-9673-4006EAA4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BED-1296-4F71-99F4-CDF677E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DADBE-9D00-48F4-9CDB-5A1DCD7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4F7A2-7A50-482F-8A68-BE10C6E1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1CFB-35D3-438B-9F78-01400E4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A23F-574F-4584-A425-04A325F1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D36D1-56F0-4E5C-BDCA-A79A80E8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FE4B4-2FC4-4129-BE81-EB2A1DDF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3A008-9E7B-4AAA-9F05-A5D7EBE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D02A7-44F1-4F2B-B8AB-43852B1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E08F0-91CC-489A-93C9-7B4FD5D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1A223-A62D-4608-97DE-38B77669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EC8-CE32-491B-88F2-CCE2D06E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0BF38-3812-495A-AA9C-4ABFFF2A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C1239-8CD5-4645-98F6-B1B8173D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CD978-5A38-43FD-8636-048BE8C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D59F0-C841-4679-BC8A-A00C7387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FFFE4-059D-468F-A0AD-8E6E70A4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8A769-D961-44C1-958D-4CD8E2A9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6E92B-B6A4-48BC-8866-43270010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5C52D-B272-40B2-BB0F-19B9BE20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CBAB6-888B-491B-8CBD-1C3DEFF6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A3BDA-4AA3-4A67-BB6C-ABFCFBE6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9B1-6015-43DE-B037-162DD02B7E14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821-D82F-4690-A915-7A36182E6336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8A64-7E43-4C9F-8466-27CA6637923D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9846-4536-4E33-9DC1-96DB1467EFF3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1BB-D944-4B8B-8A9B-25965A16DCC6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F4C3-F099-47AD-8258-451263D52D54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D9F6-C5B7-419A-AAD2-B5586CEA0880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4273-D4FA-4846-AAF4-16AB0A2D0FF1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312A-623B-48C5-B4B7-C3D8552ACE74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4925-BCEB-41E8-B676-3EDD65BF1618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132-4237-48E0-8D3B-5D5B1F0C4098}" type="slidenum"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40CA-D124-4417-82AC-B034BC73D934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5 CuadroTexto"/>
          <p:cNvSpPr/>
          <p:nvPr/>
        </p:nvSpPr>
        <p:spPr>
          <a:xfrm>
            <a:off x="755640" y="5716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plicación Android para la informatización de clasificaciones geomecánicas de macizos rocos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571680" y="285768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Manual de usuari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1" descr="E:\Entrada\Arle\Android\Imágenes\plant\Imagen1.png"/>
          <p:cNvPicPr/>
          <p:nvPr/>
        </p:nvPicPr>
        <p:blipFill>
          <a:blip r:embed="rId1"/>
          <a:stretch/>
        </p:blipFill>
        <p:spPr>
          <a:xfrm>
            <a:off x="5715000" y="5214960"/>
            <a:ext cx="3090960" cy="996840"/>
          </a:xfrm>
          <a:prstGeom prst="rect">
            <a:avLst/>
          </a:prstGeom>
          <a:ln w="0">
            <a:noFill/>
          </a:ln>
        </p:spPr>
      </p:pic>
      <p:sp>
        <p:nvSpPr>
          <p:cNvPr id="609" name="6 CuadroTexto"/>
          <p:cNvSpPr/>
          <p:nvPr/>
        </p:nvSpPr>
        <p:spPr>
          <a:xfrm>
            <a:off x="441360" y="5114880"/>
            <a:ext cx="57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utora:  Arlena Martínez Leyv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utores:  MsC. Roiky Rodríguez Noa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r. Armando Cuesta Reci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2 CuadroTexto"/>
          <p:cNvSpPr/>
          <p:nvPr/>
        </p:nvSpPr>
        <p:spPr>
          <a:xfrm>
            <a:off x="4500720" y="2232000"/>
            <a:ext cx="421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especialista abre la aplicación y sale el presente formulario, donde se elige si se desea crear un proyecto nuevo o ver los reportes que han sido guardados de proyectos anterior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5 Imagen" descr="1.png"/>
          <p:cNvPicPr/>
          <p:nvPr/>
        </p:nvPicPr>
        <p:blipFill>
          <a:blip r:embed="rId1"/>
          <a:stretch/>
        </p:blipFill>
        <p:spPr>
          <a:xfrm>
            <a:off x="285840" y="285840"/>
            <a:ext cx="378612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2.png"/>
          <p:cNvPicPr/>
          <p:nvPr/>
        </p:nvPicPr>
        <p:blipFill>
          <a:blip r:embed="rId1"/>
          <a:stretch/>
        </p:blipFill>
        <p:spPr>
          <a:xfrm>
            <a:off x="5295960" y="214200"/>
            <a:ext cx="3633840" cy="5357880"/>
          </a:xfrm>
          <a:prstGeom prst="rect">
            <a:avLst/>
          </a:prstGeom>
          <a:ln w="0">
            <a:noFill/>
          </a:ln>
        </p:spPr>
      </p:pic>
      <p:sp>
        <p:nvSpPr>
          <p:cNvPr id="613" name="4 CuadroTexto"/>
          <p:cNvSpPr/>
          <p:nvPr/>
        </p:nvSpPr>
        <p:spPr>
          <a:xfrm>
            <a:off x="214200" y="4205160"/>
            <a:ext cx="478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n caso de elegir la opción “CREAR PROYECTO”, se muestra el formulario de la derecha donde el especialista inserta los datos generales del proyecto y selecciona luego la metodología que desea aplica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5 Imagen" descr="1.png"/>
          <p:cNvPicPr/>
          <p:nvPr/>
        </p:nvPicPr>
        <p:blipFill>
          <a:blip r:embed="rId2"/>
          <a:stretch/>
        </p:blipFill>
        <p:spPr>
          <a:xfrm>
            <a:off x="285840" y="254160"/>
            <a:ext cx="2500200" cy="3968640"/>
          </a:xfrm>
          <a:prstGeom prst="rect">
            <a:avLst/>
          </a:prstGeom>
          <a:ln w="0">
            <a:noFill/>
          </a:ln>
        </p:spPr>
      </p:pic>
      <p:grpSp>
        <p:nvGrpSpPr>
          <p:cNvPr id="615" name="12 Flecha doblada"/>
          <p:cNvGrpSpPr/>
          <p:nvPr/>
        </p:nvGrpSpPr>
        <p:grpSpPr>
          <a:xfrm>
            <a:off x="2000160" y="2163600"/>
            <a:ext cx="1150920" cy="2146320"/>
            <a:chOff x="2000160" y="2163600"/>
            <a:chExt cx="1150920" cy="2146320"/>
          </a:xfrm>
        </p:grpSpPr>
        <p:pic>
          <p:nvPicPr>
            <p:cNvPr id="616" name="12 Flecha doblada" descr=""/>
            <p:cNvPicPr/>
            <p:nvPr/>
          </p:nvPicPr>
          <p:blipFill>
            <a:blip r:embed="rId3"/>
            <a:stretch/>
          </p:blipFill>
          <p:spPr>
            <a:xfrm>
              <a:off x="2000160" y="2163600"/>
              <a:ext cx="115092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5400000">
              <a:off x="1571760" y="2714760"/>
              <a:ext cx="20001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18" name="14 Conector recto de flecha" descr=""/>
          <p:cNvPicPr/>
          <p:nvPr/>
        </p:nvPicPr>
        <p:blipFill>
          <a:blip r:embed="rId4"/>
          <a:stretch/>
        </p:blipFill>
        <p:spPr>
          <a:xfrm>
            <a:off x="4359240" y="3444840"/>
            <a:ext cx="1444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4 Imagen" descr="3.png"/>
          <p:cNvPicPr/>
          <p:nvPr/>
        </p:nvPicPr>
        <p:blipFill>
          <a:blip r:embed="rId1"/>
          <a:stretch/>
        </p:blipFill>
        <p:spPr>
          <a:xfrm>
            <a:off x="214200" y="214200"/>
            <a:ext cx="3703680" cy="6072480"/>
          </a:xfrm>
          <a:prstGeom prst="rect">
            <a:avLst/>
          </a:prstGeom>
          <a:ln w="0">
            <a:noFill/>
          </a:ln>
        </p:spPr>
      </p:pic>
      <p:sp>
        <p:nvSpPr>
          <p:cNvPr id="620" name="6 CuadroTexto"/>
          <p:cNvSpPr/>
          <p:nvPr/>
        </p:nvSpPr>
        <p:spPr>
          <a:xfrm>
            <a:off x="4071960" y="1857240"/>
            <a:ext cx="47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n dependencia de la metodología que se elija sale el formulario correspondiente en el cual el especialista inserta los datos recopilados en el terren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imagen de la izquierda muestra el formulario correspondiente a la metodología de Cuest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5 Imagen" descr="5.png"/>
          <p:cNvPicPr/>
          <p:nvPr/>
        </p:nvPicPr>
        <p:blipFill>
          <a:blip r:embed="rId1"/>
          <a:stretch/>
        </p:blipFill>
        <p:spPr>
          <a:xfrm>
            <a:off x="214200" y="214200"/>
            <a:ext cx="3786480" cy="6062760"/>
          </a:xfrm>
          <a:prstGeom prst="rect">
            <a:avLst/>
          </a:prstGeom>
          <a:ln w="0">
            <a:noFill/>
          </a:ln>
        </p:spPr>
      </p:pic>
      <p:sp>
        <p:nvSpPr>
          <p:cNvPr id="622" name="8 CuadroTexto"/>
          <p:cNvSpPr/>
          <p:nvPr/>
        </p:nvSpPr>
        <p:spPr>
          <a:xfrm>
            <a:off x="4071960" y="219852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formulario de la imagen corresponde a la metodología de Bieniawski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9 Imagen" descr="4.png"/>
          <p:cNvPicPr/>
          <p:nvPr/>
        </p:nvPicPr>
        <p:blipFill>
          <a:blip r:embed="rId1"/>
          <a:stretch/>
        </p:blipFill>
        <p:spPr>
          <a:xfrm>
            <a:off x="357120" y="285840"/>
            <a:ext cx="3722760" cy="5929200"/>
          </a:xfrm>
          <a:prstGeom prst="rect">
            <a:avLst/>
          </a:prstGeom>
          <a:ln w="0">
            <a:noFill/>
          </a:ln>
        </p:spPr>
      </p:pic>
      <p:sp>
        <p:nvSpPr>
          <p:cNvPr id="624" name="10 CuadroTexto"/>
          <p:cNvSpPr/>
          <p:nvPr/>
        </p:nvSpPr>
        <p:spPr>
          <a:xfrm>
            <a:off x="4286160" y="185724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formulario de la imagen corresponde a la metodología de Bart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Una vez insertados los datos y presionado el botón de calcular se muestra una barra en la parte inferior de la pantalla con el valor calculado y la opción de ver un reporte con otros dato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4 Imagen" descr="6.png"/>
          <p:cNvPicPr/>
          <p:nvPr/>
        </p:nvPicPr>
        <p:blipFill>
          <a:blip r:embed="rId1"/>
          <a:stretch/>
        </p:blipFill>
        <p:spPr>
          <a:xfrm>
            <a:off x="285840" y="285840"/>
            <a:ext cx="3736800" cy="5929200"/>
          </a:xfrm>
          <a:prstGeom prst="rect">
            <a:avLst/>
          </a:prstGeom>
          <a:ln w="0">
            <a:noFill/>
          </a:ln>
        </p:spPr>
      </p:pic>
      <p:sp>
        <p:nvSpPr>
          <p:cNvPr id="626" name="5 CuadroTexto"/>
          <p:cNvSpPr/>
          <p:nvPr/>
        </p:nvSpPr>
        <p:spPr>
          <a:xfrm>
            <a:off x="4214880" y="114300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barra presente en la parte inferior de la pantalla contiene el resultado de calcular la metodología, la clase a la que pertenece el macizo y la calidad, también da la opción de ver un reporte con otros datos, incluyendo la propuesta de sostenimiento, que es uno de los objetivos principales de aplicar una metodología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7" name="7 Flecha doblada"/>
          <p:cNvGrpSpPr/>
          <p:nvPr/>
        </p:nvGrpSpPr>
        <p:grpSpPr>
          <a:xfrm>
            <a:off x="3962520" y="4273560"/>
            <a:ext cx="884160" cy="2017800"/>
            <a:chOff x="3962520" y="4273560"/>
            <a:chExt cx="884160" cy="2017800"/>
          </a:xfrm>
        </p:grpSpPr>
        <p:pic>
          <p:nvPicPr>
            <p:cNvPr id="628" name="7 Flecha doblada" descr=""/>
            <p:cNvPicPr/>
            <p:nvPr/>
          </p:nvPicPr>
          <p:blipFill>
            <a:blip r:embed="rId2"/>
            <a:stretch/>
          </p:blipFill>
          <p:spPr>
            <a:xfrm>
              <a:off x="3962520" y="4273560"/>
              <a:ext cx="8841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 rot="10800000">
              <a:off x="4032360" y="4319640"/>
              <a:ext cx="75384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7 Imagen" descr="7.png"/>
          <p:cNvPicPr/>
          <p:nvPr/>
        </p:nvPicPr>
        <p:blipFill>
          <a:blip r:embed="rId1"/>
          <a:stretch/>
        </p:blipFill>
        <p:spPr>
          <a:xfrm>
            <a:off x="285840" y="285840"/>
            <a:ext cx="3728880" cy="5929200"/>
          </a:xfrm>
          <a:prstGeom prst="rect">
            <a:avLst/>
          </a:prstGeom>
          <a:ln w="0">
            <a:noFill/>
          </a:ln>
        </p:spPr>
      </p:pic>
      <p:sp>
        <p:nvSpPr>
          <p:cNvPr id="631" name="8 CuadroTexto"/>
          <p:cNvSpPr/>
          <p:nvPr/>
        </p:nvSpPr>
        <p:spPr>
          <a:xfrm>
            <a:off x="4214880" y="18032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imagen corresponde a un reporte generado a partir del resultado de aplicar la metodología de Bieniawski, y da la opción de guardarlo una vez seleccionado el botón “GUARDAR</a:t>
            </a:r>
            <a:r>
              <a:rPr b="1" lang="en-US" sz="2000" spc="-1" strike="noStrike">
                <a:solidFill>
                  <a:srgbClr val="435e40"/>
                </a:solidFill>
                <a:latin typeface="Arial"/>
                <a:ea typeface="Arial"/>
              </a:rPr>
              <a:t>” </a:t>
            </a: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2 CuadroTexto"/>
          <p:cNvSpPr/>
          <p:nvPr/>
        </p:nvSpPr>
        <p:spPr>
          <a:xfrm>
            <a:off x="2428920" y="20559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GRACIAS!!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13:52:35Z</dcterms:created>
  <dc:creator>Wolf</dc:creator>
  <dc:description/>
  <dc:language>en-US</dc:language>
  <cp:lastModifiedBy>jandy</cp:lastModifiedBy>
  <dcterms:modified xsi:type="dcterms:W3CDTF">2016-07-05T01:23:18Z</dcterms:modified>
  <cp:revision>21</cp:revision>
  <dc:subject/>
  <dc:title>Presentación de PowerPoint</dc:title>
</cp:coreProperties>
</file>