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EEDD-6E7D-4270-B237-42C3E5AF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87D7-CF72-432A-B753-F92DC2A5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6FD058-7E9D-4F29-95B8-E03CBC02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AA5D98-1F95-400D-9CB5-3DC1A77C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EBBD85-91FB-4C4C-99FE-7221BE4B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D4B6C6-29F7-4B5B-9FAC-583BDA37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886BB1-3153-46B1-BD3F-C244F2DE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AF5C9F-4F5D-4996-9E1F-FBB8C2B4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FFCC1C-66B6-4DD2-9502-63F6B2F5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926172-953C-4B94-B08D-ED8A1E0A5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AB8E39-E204-407D-B93C-4A290D7EF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D5856D-2AF2-4509-AE65-0DBCE026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DBAE-8F52-4F2A-BCD5-46DB743E1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EA4DF1-3B29-4B56-95E4-7ADC1603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310E65-A829-4533-81E2-7EF39F56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83974C-C5E2-415B-BBAB-3FC2F171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D373BF-016A-462B-830A-014FA184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C384CC-AFC3-4CD5-9FEE-B43DEB5D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2C8969-3510-4E5D-90B3-EF0D5CD9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1C829C-5F6D-4BA9-BEFF-D8935AF5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D57549-810C-4F39-B635-FBC3F742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663BB1-610E-4729-971E-9C27936B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7080C5-8A48-46EF-83F6-853C4F4E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33FE-5D4E-41B9-8F77-E5A80ABF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42473E-69A2-4AB3-8B3D-F8B67E7D4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9F53A-D3BD-4BC2-B3A3-AD23B9407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33ECA-A17F-4662-9DCA-A8F12D97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E1DC5-85E7-4CA0-8063-34EAA31E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57DA3-FD6D-456F-AB8B-48EAC8DA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A4955-2FC9-47C9-AC20-4304D770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A1B52-70C3-46B0-BDE5-F216DAAF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DE6F7-F749-4D47-96E9-62C3B563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87F49-964A-44C5-B1AE-B45B5B37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62055-E8CD-4F82-8B23-EE4551EA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114E-85DE-4165-91CF-5C873C04E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7E456-CA4C-4969-9448-42B18B6A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75DD5-56BE-4402-BDA3-4B70C84B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DF309-1A7F-4E89-BFB4-311FF9B77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C8D627-A3EE-4FED-B403-32FB0D14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4C92D6-9679-40C9-8F8F-F0E059A9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72A412-4AF6-425D-9B6E-C70506E0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03FDE9-AFB3-470F-BA19-F1BAA3AA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54C1B5-BDDA-4FD5-A855-40919115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2368E2-2EAF-44C3-8E21-8F48E831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F45C75-C3C9-47F3-914A-8EE69F0F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0AB1-E228-4925-B50B-0DCC8EDF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4E1073-1478-492B-8E74-54CEB128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685F0A-2A9E-40CC-A5CB-A1BCEC57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AE3EFA-1D7A-4B8B-91B0-350A1331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988007-77B3-4B5F-9CCC-B1FC041F5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359DAC-A3F2-4D3D-9F10-7D7F1BBFF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4F53-DF36-4E4F-B01B-E5C329FA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4B8C-B18C-4228-987C-591BAC78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EF39-2A73-430A-A582-698E9354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AAE4-4FCD-4FF8-994C-5A18A62A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0BCA-BD2B-4C8A-B78F-65497DF7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0802-74C9-4F4D-B986-1856F847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D7AA-DDFA-414D-8401-B27663A6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5FDB-DB0C-4243-9ED4-53FC4519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250B-79B4-4B7B-B4A9-B7A18242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5847-D9EA-4624-9E8A-B4E4AFD3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83DA-CA32-480C-A1C7-A95F584CE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10BC3-C4C9-4ED8-A37D-C98CC645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52377-8C57-4083-B714-33A7C3FB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10BAF-08E7-43A6-9929-29624407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56FC1-2ECF-463B-A7FE-2479FE81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F77D7-F989-4034-BB00-086F661C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5725-87AB-4080-9317-FAE616A1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71E5E-30E4-4EC8-9FF5-C7E0DF38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43AD6-BDF5-4BD4-A6C0-5B4B6160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97154-5B1B-4570-A7BE-CC4164D9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D540A-3424-4284-A3C0-74EDAEB7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2580E-B56E-43FB-88C1-249F1B0C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EE3DB-E407-4BFC-B619-0C9B00B95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3353F-DC5D-4B69-86D3-D6E72FAA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CD2FD-9640-4737-A93F-661F0C90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D79CE-79F7-4DC4-B7C1-5FBF35BE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FD527-01A7-4FBA-9760-632280C3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7579-2AE8-45E6-91B8-2726331E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006D3-4587-4224-9486-42D0A9C6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82A42-1A19-409B-968E-E863CBFD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BD179-7FE7-425B-B0C7-FE3B11EA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8D925-F946-4144-8B62-9C712F85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262D8-4683-4A9B-8E92-544A892D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6FE5A-3594-4576-A2DF-CF896A35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B4BBC-99A7-4983-96E7-80C5FA8C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6E699-10AB-4A3F-A1F2-DEDCFFD3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1017B-ECA4-4B3D-98C2-F73F6C9E4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DC513-FCA4-40B9-88E3-CB7D78C1A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624E-FA40-470A-A10A-D07C63CD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3214A-796E-4937-BFB7-EE1E3E27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4466F-6537-4D9D-9D83-BB706721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D937A-4563-4A0B-8888-4B26039D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1D358-6138-48EA-B5F0-2DE3E5A0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EBDE1-E2AE-456A-8CB2-533186A3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32024-257E-494E-BD22-35E610A3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BF065-FDE3-4FA5-85AE-586150DF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4BE23-E588-4500-B5FD-BED4A9D8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C0B33-553E-4715-B042-5B0A967D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76C0E-4109-405F-B88D-9FF18EE42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BBD5-B3F3-45A7-854A-3410195B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22805-E4C5-4499-B92A-4440A7D8B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9E4F0-4341-4324-8C7E-DDBEC5EC9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8BF33-51EE-4FFD-8A1D-4865F8DF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01B0A-3A3B-4E56-92E4-603B6A2F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91BCC-CEEE-43DB-B6FA-0341E295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A91F8-D178-4D55-ABAF-60F9E2B7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E4253-11FE-40FD-BF41-4A0F50EB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97F72-8C42-42CE-98A5-A28EB13C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9C5B6-D854-4C27-B821-596B55F8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80AB0-FDB1-4057-B049-F1F6B8B7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F348-A3B1-44F5-9EA1-7A733528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31573-8CAC-4BBA-BCBE-B450653E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181FE-DCE2-441D-9794-C8C3C4B9A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13D0E-6BCA-4CB0-8A99-84B25ABE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A2294-BBDF-4063-A536-350DDE419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B5313-5FE9-4070-8389-4B3E2071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2B4F5-37B2-451B-B9B1-F06666D2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B3A88-853C-48AE-8551-2CE8013C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1F18A-5D9D-4AD1-8907-CE0D1850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DA1C9-C834-4F7F-8ADE-41153766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6318F-8F58-450D-A485-DBFE9E16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7EB3-9272-424D-9F75-84F50AD5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1B300-2832-4FC4-B83A-CDB8070C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EDBAF-62D1-4614-932B-22D44932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1597A-8393-49CF-8AE5-CF4DA2BC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332A5-8AB9-40F6-876F-A9CA00A4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83A90-6651-47D4-B054-5AF127C2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6762A-9A8E-4836-8668-587F2C409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9F1C8-9241-46AB-ACA4-E78EF242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3C148-D99D-4FDC-B737-CDF65056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5B5D9-1940-42E3-A62D-3C07E09F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09130-8C92-4AAE-8FE5-F32F095F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E86F-FFE9-44C6-8E95-BE0DD7B4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F019E-CF9A-4B1E-B2A2-29869951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C8EA7-0101-4F79-9C7A-0F04F1F5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E9287-5DF9-4787-96E4-B8F58EC9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01ADB-AB3F-4203-BEBE-96FA7E07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FBE3F-AB73-4B12-9750-058077C9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F2E2D-2B66-4D7F-B60A-A1DD5A3F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3291A-A302-4802-9930-1A547B90B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7927F0-37DA-4AD6-84A3-66596CB06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43BA53-57ED-4F8F-B207-7F38DBD3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115517-4E2E-43DE-BA4F-6D1B8F27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A601-7237-4372-959D-22B89B3BAF6C}" type="slidenum">
              <a:rPr b="0" lang="es-A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19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24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25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26 Rectángulo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27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28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29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30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31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DD60-D8FD-4B2D-B7D6-AA48E660910C}" type="slidenum">
              <a:rPr b="0" lang="es-A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BF2C-2129-48B1-B787-6D0A8B4DAA61}" type="slidenum">
              <a:rPr b="0" lang="es-A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20 Rectángulo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23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26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27 Conector recto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28 Elipse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29 Elipse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BA07-DEF0-4032-8CB7-9B4378A7DA3A}" type="slidenum">
              <a:rPr b="0" lang="es-A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20 Rectángulo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24 Rectángulo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26 Conector recto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28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29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1E7E-5D55-4E43-B23B-33BF1881E17C}" type="slidenum">
              <a:rPr b="0" lang="es-A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52B2-7BA5-428F-9884-4F401CFE1A91}" type="slidenum">
              <a:rPr b="0" lang="es-A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9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23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24 Rectángulo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25 Rectángulo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26 Rectángulo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27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28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29 Conector recto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30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31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B8DF-6C53-4C30-A115-6F5E0D9EF86F}" type="slidenum">
              <a:rPr b="0" lang="es-A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19 Conector recto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40B1-C09F-4B95-8E6F-CB25BE139330}" type="slidenum">
              <a:rPr b="0" lang="es-A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19 Conector recto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20 Rectángulo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23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25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26 Rectángulo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27 Rectángulo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28 Conector recto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29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30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31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CC9F-51C7-4E4C-8DB1-2B9F057AEBF8}" type="slidenum">
              <a:rPr b="0" lang="es-A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B3A8-FF0E-4819-BD7D-32F307BF0E5F}" type="slidenum">
              <a:rPr b="0" lang="es-A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20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26 Rectángulo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A52D-71AE-4FAF-A8FC-46CFFFD95DAB}" type="slidenum">
              <a:rPr b="0" lang="es-A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19 Rectángulo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24 Rectángulo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25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26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28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29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30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31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7845-6222-429B-A2FC-66699C22F581}" type="slidenum">
              <a:rPr b="0" lang="es-A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5 CuadroTexto"/>
          <p:cNvSpPr/>
          <p:nvPr/>
        </p:nvSpPr>
        <p:spPr>
          <a:xfrm>
            <a:off x="755640" y="571680"/>
            <a:ext cx="77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Aplicación Android para la informatización de clasificaciones geomecánicas de macizos rocoso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3 CuadroTexto"/>
          <p:cNvSpPr/>
          <p:nvPr/>
        </p:nvSpPr>
        <p:spPr>
          <a:xfrm>
            <a:off x="571680" y="2857680"/>
            <a:ext cx="835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Manual de usuario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8" name="Picture 1" descr="E:\Entrada\Arle\Android\Imágenes\plant\Imagen1.png"/>
          <p:cNvPicPr/>
          <p:nvPr/>
        </p:nvPicPr>
        <p:blipFill>
          <a:blip r:embed="rId1"/>
          <a:stretch/>
        </p:blipFill>
        <p:spPr>
          <a:xfrm>
            <a:off x="5715000" y="5214960"/>
            <a:ext cx="3090960" cy="996840"/>
          </a:xfrm>
          <a:prstGeom prst="rect">
            <a:avLst/>
          </a:prstGeom>
          <a:ln w="0">
            <a:noFill/>
          </a:ln>
        </p:spPr>
      </p:pic>
      <p:sp>
        <p:nvSpPr>
          <p:cNvPr id="609" name="6 CuadroTexto"/>
          <p:cNvSpPr/>
          <p:nvPr/>
        </p:nvSpPr>
        <p:spPr>
          <a:xfrm>
            <a:off x="441360" y="5114880"/>
            <a:ext cx="5770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utora:  Arlena Martínez Leyv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utores:  MsC. Roiky Rodríguez Noa         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r. Armando Cuesta Reci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2 CuadroTexto"/>
          <p:cNvSpPr/>
          <p:nvPr/>
        </p:nvSpPr>
        <p:spPr>
          <a:xfrm>
            <a:off x="4500720" y="2232000"/>
            <a:ext cx="4214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35e40"/>
                </a:solidFill>
                <a:latin typeface="Arial"/>
                <a:ea typeface="Arial"/>
              </a:rPr>
              <a:t>El especialista abre la aplicación y sale el presente formulario, donde se elige si se desea crear un proyecto nuevo o ver los reportes que han sido guardados de proyectos anteriores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1" name="5 Imagen" descr="1.png"/>
          <p:cNvPicPr/>
          <p:nvPr/>
        </p:nvPicPr>
        <p:blipFill>
          <a:blip r:embed="rId1"/>
          <a:stretch/>
        </p:blipFill>
        <p:spPr>
          <a:xfrm>
            <a:off x="285840" y="285840"/>
            <a:ext cx="3786120" cy="60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3 Imagen" descr="2.png"/>
          <p:cNvPicPr/>
          <p:nvPr/>
        </p:nvPicPr>
        <p:blipFill>
          <a:blip r:embed="rId1"/>
          <a:stretch/>
        </p:blipFill>
        <p:spPr>
          <a:xfrm>
            <a:off x="5295960" y="214200"/>
            <a:ext cx="3633840" cy="5357880"/>
          </a:xfrm>
          <a:prstGeom prst="rect">
            <a:avLst/>
          </a:prstGeom>
          <a:ln w="0">
            <a:noFill/>
          </a:ln>
        </p:spPr>
      </p:pic>
      <p:sp>
        <p:nvSpPr>
          <p:cNvPr id="613" name="4 CuadroTexto"/>
          <p:cNvSpPr/>
          <p:nvPr/>
        </p:nvSpPr>
        <p:spPr>
          <a:xfrm>
            <a:off x="214200" y="4205160"/>
            <a:ext cx="4786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35e40"/>
                </a:solidFill>
                <a:latin typeface="Arial"/>
                <a:ea typeface="Arial"/>
              </a:rPr>
              <a:t>En caso de elegir la opción “CREAR PROYECTO”, se muestra el formulario de la derecha donde el especialista inserta los datos generales del proyecto y selecciona luego la metodología que desea aplicar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4" name="5 Imagen" descr="1.png"/>
          <p:cNvPicPr/>
          <p:nvPr/>
        </p:nvPicPr>
        <p:blipFill>
          <a:blip r:embed="rId2"/>
          <a:stretch/>
        </p:blipFill>
        <p:spPr>
          <a:xfrm>
            <a:off x="285840" y="254160"/>
            <a:ext cx="2500200" cy="3968640"/>
          </a:xfrm>
          <a:prstGeom prst="rect">
            <a:avLst/>
          </a:prstGeom>
          <a:ln w="0">
            <a:noFill/>
          </a:ln>
        </p:spPr>
      </p:pic>
      <p:grpSp>
        <p:nvGrpSpPr>
          <p:cNvPr id="615" name="12 Flecha doblada"/>
          <p:cNvGrpSpPr/>
          <p:nvPr/>
        </p:nvGrpSpPr>
        <p:grpSpPr>
          <a:xfrm>
            <a:off x="2000160" y="2163600"/>
            <a:ext cx="1150920" cy="2146320"/>
            <a:chOff x="2000160" y="2163600"/>
            <a:chExt cx="1150920" cy="2146320"/>
          </a:xfrm>
        </p:grpSpPr>
        <p:pic>
          <p:nvPicPr>
            <p:cNvPr id="616" name="12 Flecha doblada" descr=""/>
            <p:cNvPicPr/>
            <p:nvPr/>
          </p:nvPicPr>
          <p:blipFill>
            <a:blip r:embed="rId3"/>
            <a:stretch/>
          </p:blipFill>
          <p:spPr>
            <a:xfrm>
              <a:off x="2000160" y="2163600"/>
              <a:ext cx="115092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 rot="5400000">
              <a:off x="1571760" y="2714760"/>
              <a:ext cx="200016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pic>
        <p:nvPicPr>
          <p:cNvPr id="618" name="14 Conector recto de flecha" descr=""/>
          <p:cNvPicPr/>
          <p:nvPr/>
        </p:nvPicPr>
        <p:blipFill>
          <a:blip r:embed="rId4"/>
          <a:stretch/>
        </p:blipFill>
        <p:spPr>
          <a:xfrm>
            <a:off x="4359240" y="3444840"/>
            <a:ext cx="144468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4 Imagen" descr="3.png"/>
          <p:cNvPicPr/>
          <p:nvPr/>
        </p:nvPicPr>
        <p:blipFill>
          <a:blip r:embed="rId1"/>
          <a:stretch/>
        </p:blipFill>
        <p:spPr>
          <a:xfrm>
            <a:off x="214200" y="214200"/>
            <a:ext cx="3703680" cy="6072480"/>
          </a:xfrm>
          <a:prstGeom prst="rect">
            <a:avLst/>
          </a:prstGeom>
          <a:ln w="0">
            <a:noFill/>
          </a:ln>
        </p:spPr>
      </p:pic>
      <p:sp>
        <p:nvSpPr>
          <p:cNvPr id="620" name="6 CuadroTexto"/>
          <p:cNvSpPr/>
          <p:nvPr/>
        </p:nvSpPr>
        <p:spPr>
          <a:xfrm>
            <a:off x="4071960" y="1857240"/>
            <a:ext cx="4786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35e40"/>
                </a:solidFill>
                <a:latin typeface="Arial"/>
                <a:ea typeface="Arial"/>
              </a:rPr>
              <a:t>En dependencia de la metodología que se elija sale el formulario correspondiente en el cual el especialista inserta los datos recopilados en el terreno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35e40"/>
                </a:solidFill>
                <a:latin typeface="Arial"/>
                <a:ea typeface="Arial"/>
              </a:rPr>
              <a:t>La imagen de la izquierda muestra el formulario correspondiente a la metodología de Cuesta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5 Imagen" descr="5.png"/>
          <p:cNvPicPr/>
          <p:nvPr/>
        </p:nvPicPr>
        <p:blipFill>
          <a:blip r:embed="rId1"/>
          <a:stretch/>
        </p:blipFill>
        <p:spPr>
          <a:xfrm>
            <a:off x="214200" y="214200"/>
            <a:ext cx="3786480" cy="6062760"/>
          </a:xfrm>
          <a:prstGeom prst="rect">
            <a:avLst/>
          </a:prstGeom>
          <a:ln w="0">
            <a:noFill/>
          </a:ln>
        </p:spPr>
      </p:pic>
      <p:sp>
        <p:nvSpPr>
          <p:cNvPr id="622" name="8 CuadroTexto"/>
          <p:cNvSpPr/>
          <p:nvPr/>
        </p:nvSpPr>
        <p:spPr>
          <a:xfrm>
            <a:off x="4071960" y="2198520"/>
            <a:ext cx="47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35e40"/>
                </a:solidFill>
                <a:latin typeface="Arial"/>
                <a:ea typeface="Arial"/>
              </a:rPr>
              <a:t>El formulario de la imagen corresponde a la metodología de Bieniawski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9 Imagen" descr="4.png"/>
          <p:cNvPicPr/>
          <p:nvPr/>
        </p:nvPicPr>
        <p:blipFill>
          <a:blip r:embed="rId1"/>
          <a:stretch/>
        </p:blipFill>
        <p:spPr>
          <a:xfrm>
            <a:off x="357120" y="285840"/>
            <a:ext cx="3722760" cy="5929200"/>
          </a:xfrm>
          <a:prstGeom prst="rect">
            <a:avLst/>
          </a:prstGeom>
          <a:ln w="0">
            <a:noFill/>
          </a:ln>
        </p:spPr>
      </p:pic>
      <p:sp>
        <p:nvSpPr>
          <p:cNvPr id="624" name="10 CuadroTexto"/>
          <p:cNvSpPr/>
          <p:nvPr/>
        </p:nvSpPr>
        <p:spPr>
          <a:xfrm>
            <a:off x="4286160" y="1857240"/>
            <a:ext cx="457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35e40"/>
                </a:solidFill>
                <a:latin typeface="Arial"/>
                <a:ea typeface="Arial"/>
              </a:rPr>
              <a:t>El formulario de la imagen corresponde a la metodología de Barton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35e40"/>
                </a:solidFill>
                <a:latin typeface="Arial"/>
                <a:ea typeface="Arial"/>
              </a:rPr>
              <a:t>Una vez insertados los datos y presionado el botón de calcular se muestra una barra en la parte inferior de la pantalla con el valor calculado y la opción de ver un reporte con otros datos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4 Imagen" descr="6.png"/>
          <p:cNvPicPr/>
          <p:nvPr/>
        </p:nvPicPr>
        <p:blipFill>
          <a:blip r:embed="rId1"/>
          <a:stretch/>
        </p:blipFill>
        <p:spPr>
          <a:xfrm>
            <a:off x="285840" y="285840"/>
            <a:ext cx="3736800" cy="5929200"/>
          </a:xfrm>
          <a:prstGeom prst="rect">
            <a:avLst/>
          </a:prstGeom>
          <a:ln w="0">
            <a:noFill/>
          </a:ln>
        </p:spPr>
      </p:pic>
      <p:sp>
        <p:nvSpPr>
          <p:cNvPr id="626" name="5 CuadroTexto"/>
          <p:cNvSpPr/>
          <p:nvPr/>
        </p:nvSpPr>
        <p:spPr>
          <a:xfrm>
            <a:off x="4214880" y="1143000"/>
            <a:ext cx="457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35e40"/>
                </a:solidFill>
                <a:latin typeface="Arial"/>
                <a:ea typeface="Arial"/>
              </a:rPr>
              <a:t>La barra presente en la parte inferior de la pantalla contiene el resultado de calcular la metodología, la clase a la que pertenece el macizo y la calidad, también da la opción de ver un reporte con otros datos, incluyendo la propuesta de sostenimiento, que es uno de los objetivos principales de aplicar una metodología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627" name="7 Flecha doblada"/>
          <p:cNvGrpSpPr/>
          <p:nvPr/>
        </p:nvGrpSpPr>
        <p:grpSpPr>
          <a:xfrm>
            <a:off x="3962520" y="4273560"/>
            <a:ext cx="884160" cy="2017800"/>
            <a:chOff x="3962520" y="4273560"/>
            <a:chExt cx="884160" cy="2017800"/>
          </a:xfrm>
        </p:grpSpPr>
        <p:pic>
          <p:nvPicPr>
            <p:cNvPr id="628" name="7 Flecha doblada" descr=""/>
            <p:cNvPicPr/>
            <p:nvPr/>
          </p:nvPicPr>
          <p:blipFill>
            <a:blip r:embed="rId2"/>
            <a:stretch/>
          </p:blipFill>
          <p:spPr>
            <a:xfrm>
              <a:off x="3962520" y="4273560"/>
              <a:ext cx="88416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 rot="10800000">
              <a:off x="4032360" y="4319640"/>
              <a:ext cx="753840" cy="18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7 Imagen" descr="7.png"/>
          <p:cNvPicPr/>
          <p:nvPr/>
        </p:nvPicPr>
        <p:blipFill>
          <a:blip r:embed="rId1"/>
          <a:stretch/>
        </p:blipFill>
        <p:spPr>
          <a:xfrm>
            <a:off x="285840" y="285840"/>
            <a:ext cx="3728880" cy="5929200"/>
          </a:xfrm>
          <a:prstGeom prst="rect">
            <a:avLst/>
          </a:prstGeom>
          <a:ln w="0">
            <a:noFill/>
          </a:ln>
        </p:spPr>
      </p:pic>
      <p:sp>
        <p:nvSpPr>
          <p:cNvPr id="631" name="8 CuadroTexto"/>
          <p:cNvSpPr/>
          <p:nvPr/>
        </p:nvSpPr>
        <p:spPr>
          <a:xfrm>
            <a:off x="4214880" y="1803240"/>
            <a:ext cx="457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35e40"/>
                </a:solidFill>
                <a:latin typeface="Arial"/>
                <a:ea typeface="Arial"/>
              </a:rPr>
              <a:t>La imagen corresponde a un reporte generado a partir del resultado de aplicar la metodología de Bieniawski, y da la opción de guardarlo una vez seleccionado el botón “GUARDAR</a:t>
            </a:r>
            <a:r>
              <a:rPr b="1" lang="en-US" sz="2000" spc="-1" strike="noStrike">
                <a:solidFill>
                  <a:srgbClr val="435e40"/>
                </a:solidFill>
                <a:latin typeface="Arial"/>
                <a:ea typeface="Arial"/>
              </a:rPr>
              <a:t>” </a:t>
            </a:r>
            <a:r>
              <a:rPr b="1" lang="es-ES" sz="2000" spc="-1" strike="noStrike">
                <a:solidFill>
                  <a:srgbClr val="435e4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2 CuadroTexto"/>
          <p:cNvSpPr/>
          <p:nvPr/>
        </p:nvSpPr>
        <p:spPr>
          <a:xfrm>
            <a:off x="2428920" y="205596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35e40"/>
                </a:solidFill>
                <a:latin typeface="Arial"/>
                <a:ea typeface="Arial"/>
              </a:rPr>
              <a:t>GRACIAS!!!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9T13:52:35Z</dcterms:created>
  <dc:creator>Wolf</dc:creator>
  <dc:description/>
  <dc:language>en-US</dc:language>
  <cp:lastModifiedBy>jandy</cp:lastModifiedBy>
  <dcterms:modified xsi:type="dcterms:W3CDTF">2016-07-05T01:23:18Z</dcterms:modified>
  <cp:revision>21</cp:revision>
  <dc:subject/>
  <dc:title>Presentación de PowerPoint</dc:title>
</cp:coreProperties>
</file>