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833-2C28-454D-9056-C2EC7AE0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619-E117-48FC-8B17-FB14F1DB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177836-4F65-41E7-9781-594CFC79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3D388-7168-4C30-AC3C-7E0AD964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B253E-D3BE-4055-8201-04B868DC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464F7-0B29-418D-8E56-F6A52602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40802-8FB9-430C-A650-B9FEB47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7E1FC-00D6-498A-B145-6CB203FF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618DD-38DA-4C0F-BBEE-7067C6D4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3182E-6CC9-42F5-820A-E4BBE7F7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CAA9E-04AF-4F01-B81C-2C7F0C5D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F990E-F56F-4B56-93B0-2198EE92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692-5131-49D6-82E5-BC34E85C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46432-82D5-4507-BE62-4A2256B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36D55-4054-4998-882A-6CF19491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B6361-788E-479C-8B92-BE547C2C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688F4-034B-46F1-9BB4-51EBF548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39325-F682-469D-86C7-2F3113D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E3D89-9F95-4D7D-84F8-8605C223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53D40-11E1-4517-A54F-5B71E0C7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1AFEA-391B-4F8D-AA4E-8FBD9F4F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C0776-D107-4377-A317-AABD8514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2AD23-E4A2-438D-BC58-AECC15AF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E0F-A596-47B3-9779-C0F17FC2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9BB48-901D-4C8A-B47A-C3AC6EEC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642B7-2834-411F-BF33-A6F50B74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D3440-9310-48C6-A972-E810B557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A84AA-9EE1-4A23-835F-F3316F61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80EA7-3C81-49A9-A775-89EFFFDB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1874D-6D62-4229-AA6B-287428EC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649C8-5629-41B2-A7E5-95AAA9A9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83651-EE2F-4443-A358-40F4629D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E2ACA-ED3E-4D56-95D1-E811609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6BD36-D921-42DF-BE0F-DA40E028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F09B-18FF-4601-BA5A-8BE7A619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2A8A8-038D-41DC-B690-CB3CFBF8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2FAE6-094F-4CE3-A56A-FEB5295D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5A866-9C83-4CA3-9D27-74B82295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C6EEB-0806-4F9F-B9AD-1EF0C8CE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E570E-9796-4FAD-8AB6-92F5675F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FB798-ACD6-47EF-8323-D6D43373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E783D-1946-4B43-9306-70D08FF2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45134-06BF-4E94-9BE5-58FBEC7A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66826-19CC-4350-969D-8FDAF94E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E4293-0705-4C80-B1E6-3458C182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930B-6AC0-40A4-B7B7-F1747827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E110B-A08A-404C-B612-B2DA9A9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A797A-4CB0-4CAB-93E6-85C5C789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96810-3B2E-4819-AA34-47852106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CBC09-EF6E-4B56-AC64-1972A219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CF1D9-5AA5-43B6-A15B-5A19CF1E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ACD7-7FA1-4446-8248-87C8B557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B38B-CC3C-4266-B793-962B979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6235-1FA1-44B0-B34C-04621392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BF24-5BFF-4F86-AE38-D5AEC5E4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1C13-20CD-4383-8E9E-FC9E1E02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F8F-2AE2-4BAF-ABAC-A57D670D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5276-0BE8-4C60-8BA2-2B92B18B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B9F2-370C-4E15-A2B1-06AA340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1B0C-5E6D-4703-B419-E5870213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6EF-8B16-4C15-BCEE-D3C53B3F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E1C4-4A30-4ABB-A9A8-045C3B9E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CB59-64C7-49F1-95F2-4390AD1F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229F-FBC7-42FA-93B5-C4E6FEF5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0A43-0527-4C0F-B7F4-0DEF2A39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8CE2-9890-48BA-8F0C-301004D3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7A2D-DBBC-4B24-898C-7C606FBA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E26-B6FE-47C4-821B-6D58089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BA99-5D3D-436C-AC25-51ECBF9C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5E9A3-F8C0-46B0-9240-2067FFDC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1C49-8128-4368-A707-ED57DC54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8D11-4745-4CF9-9044-642A4C5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3502-43ED-492F-8DB0-A4798C29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A1F1E-F709-43DA-AD04-AD906953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FF49-822E-4786-B210-25966DC3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94F4D-0DB7-44D5-89EF-2D3A36C9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A66B-78DA-41D2-B043-4513C9FF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DE71-B38F-4EE3-A0F6-5172CA3F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054-1D18-43AD-90E7-5074EEC3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DA74-E07F-4038-9477-CD33D79D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4744-274A-4977-B727-2BE13BCF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C93F-D8D8-4D1F-BBC5-468683B9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6ED3E-922D-4E93-9E5E-2412929B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0CB22-6C2C-44C0-A8BB-0B760E60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03C0-B115-407B-A043-26196DE5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C81AA-0326-457C-A96C-03B09E9A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9AE4-BEA3-4F76-BEFF-13A44F56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7A62-FC3A-4FEA-92C7-2A8CE76A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2D103-9F54-47B1-AA83-73982FDE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4A91-D4EA-45BE-AACC-2DED02EB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F6AAB-9B53-4A20-87D1-2A62FB81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7C9D7-BE57-4FE8-8F2F-B79A92B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2C909-4154-49EB-AEAD-1CB2C679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25782-AF1D-4551-B132-F1EFDA1D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050D9-4CB5-4F8A-98A2-59451F5D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3E6E-3813-43A2-8705-6E5E9F99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B544A-B652-4ED4-B33E-446151C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4409-9E81-4BFA-A3E4-F52F0BBA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45A02-17DE-4AA3-8FAF-4004CCD5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7F3C-90B5-48C3-96FC-33ECD7AC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971-4200-444D-AB16-C6C46534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E2ECC-CA3E-40ED-B799-5EF25082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A552-AC72-46D3-9C9B-1E4758C6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E84C-8327-4C51-9D8B-70FBA3AF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079C4-38CE-41E4-94FE-1D88E709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EA53E-DAB6-4879-937B-7EF8FC17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4AFFD-9715-4548-8068-566BAD53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9A449-5FC3-4B7D-A0D2-D8C716A3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2EC61-F254-4AC9-930E-15FE6888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17B1E-18EA-48EA-B5B3-A5FA2C5A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6A9B5-FC61-4A5E-8001-92253AB8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BA4-43B3-411D-9A9A-98AD15E6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13111-D117-40D0-9CC9-DBE03EBC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2637-1E35-4D9E-9F2D-8D9704DF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42D4C-2683-4C31-B0C5-F51E1D2F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AC93B-BE11-4ECA-8671-F4542DD1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2E07F-1D46-45DE-BC9F-9B7B49D0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E4683-78C8-4B5B-8A20-52618834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7F712-C77D-4500-B8CB-E345E393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79BB-AF64-46A4-A87A-F10B5380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60583-A859-44FA-9D1A-2680ADCF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FB2F8-4F0C-4B96-B019-C0481725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617-018C-4716-9057-D0C51838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C9681-B3BF-4A41-AC4B-24447C6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6F5EE-5E9D-4F58-B7DA-257D3702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D755-0262-4BC1-B024-FEF07A13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7C962-8668-4556-80A1-B2AB513E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4293D-64CB-4564-B819-04C59E5F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BEE9D-3138-4C61-A9E5-C9902FC7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7ADC4-F0ED-4307-9DFF-E051236D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1B76-B6CA-4ED9-9225-F8F3320C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F7757-D121-4A87-8FFD-6BC784B3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DF895-9BD6-4E64-90C6-74FABB0E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2BC-70EC-46D2-9699-321377AA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12F9-9569-4C22-94B2-24A5E4ED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C6959-175A-40DF-8EB1-F2DFB6B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D2935-54E4-4F18-9CA8-03816F7E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3175C-DADA-414C-B10D-3EF6FD8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7B784-8E5F-456E-B3B7-D3EBB402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9DE0F-08B1-4201-86D4-3443D2B9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B98B4-D33F-43EC-AC46-127D9D2A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01C44-F7E6-4790-95D1-9E002A3D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64440-426F-4632-8379-EBA734B0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2C10A-35DF-4644-8A6B-E528669A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0936-F1DA-44BD-B09F-E1D690FCB175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E977-F887-4CA5-97D2-367F13DAC061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A706-F7DC-464F-8B78-E2C3FAE55E15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CD21-5934-46AD-8EDD-DAC1DC7239F5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AFEF-A228-4844-AE1C-12A7380C0A66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4AD5-1FE7-42D3-9C97-92E077C092FB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0C9F-1878-4137-A1F7-E0DCF012829E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A09A-2BA5-4424-9FF6-C80F32EE60A6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6F63-4A9B-4788-81F0-348B0AA26748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77F5-EF5E-418B-BC5D-D3EDFD79ED1E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E628-6278-4598-8A7F-CBAAFF016F12}" type="slidenum">
              <a:rPr b="0" lang="es-A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D453-C382-466B-AACE-97E120BC6227}" type="slidenum">
              <a:rPr b="0" lang="es-A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5 CuadroTexto"/>
          <p:cNvSpPr/>
          <p:nvPr/>
        </p:nvSpPr>
        <p:spPr>
          <a:xfrm>
            <a:off x="755640" y="57168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plicación Android para la informatización de clasificaciones geomecánicas de macizos rocos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3 CuadroTexto"/>
          <p:cNvSpPr/>
          <p:nvPr/>
        </p:nvSpPr>
        <p:spPr>
          <a:xfrm>
            <a:off x="571680" y="285768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Manual de usuari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1" descr="E:\Entrada\Arle\Android\Imágenes\plant\Imagen1.png"/>
          <p:cNvPicPr/>
          <p:nvPr/>
        </p:nvPicPr>
        <p:blipFill>
          <a:blip r:embed="rId1"/>
          <a:stretch/>
        </p:blipFill>
        <p:spPr>
          <a:xfrm>
            <a:off x="5715000" y="5214960"/>
            <a:ext cx="3090960" cy="996840"/>
          </a:xfrm>
          <a:prstGeom prst="rect">
            <a:avLst/>
          </a:prstGeom>
          <a:ln w="0">
            <a:noFill/>
          </a:ln>
        </p:spPr>
      </p:pic>
      <p:sp>
        <p:nvSpPr>
          <p:cNvPr id="609" name="6 CuadroTexto"/>
          <p:cNvSpPr/>
          <p:nvPr/>
        </p:nvSpPr>
        <p:spPr>
          <a:xfrm>
            <a:off x="441360" y="5114880"/>
            <a:ext cx="57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utora:  Arlena Martínez Leyv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utores:  MsC. Roiky Rodríguez Noa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r. Armando Cuesta Reci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2 CuadroTexto"/>
          <p:cNvSpPr/>
          <p:nvPr/>
        </p:nvSpPr>
        <p:spPr>
          <a:xfrm>
            <a:off x="4500720" y="2232000"/>
            <a:ext cx="421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l especialista abre la aplicación y sale el presente formulario, donde se elige si se desea crear un proyecto nuevo o ver los reportes que han sido guardados de proyectos anterior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5 Imagen" descr="1.png"/>
          <p:cNvPicPr/>
          <p:nvPr/>
        </p:nvPicPr>
        <p:blipFill>
          <a:blip r:embed="rId1"/>
          <a:stretch/>
        </p:blipFill>
        <p:spPr>
          <a:xfrm>
            <a:off x="285840" y="285840"/>
            <a:ext cx="378612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3 Imagen" descr="2.png"/>
          <p:cNvPicPr/>
          <p:nvPr/>
        </p:nvPicPr>
        <p:blipFill>
          <a:blip r:embed="rId1"/>
          <a:stretch/>
        </p:blipFill>
        <p:spPr>
          <a:xfrm>
            <a:off x="5295960" y="214200"/>
            <a:ext cx="3633840" cy="5357880"/>
          </a:xfrm>
          <a:prstGeom prst="rect">
            <a:avLst/>
          </a:prstGeom>
          <a:ln w="0">
            <a:noFill/>
          </a:ln>
        </p:spPr>
      </p:pic>
      <p:sp>
        <p:nvSpPr>
          <p:cNvPr id="613" name="4 CuadroTexto"/>
          <p:cNvSpPr/>
          <p:nvPr/>
        </p:nvSpPr>
        <p:spPr>
          <a:xfrm>
            <a:off x="214200" y="4205160"/>
            <a:ext cx="4786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n caso de elegir la opción “CREAR PROYECTO”, se muestra el formulario de la derecha donde el especialista inserta los datos generales del proyecto y selecciona luego la metodología que desea aplicar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5 Imagen" descr="1.png"/>
          <p:cNvPicPr/>
          <p:nvPr/>
        </p:nvPicPr>
        <p:blipFill>
          <a:blip r:embed="rId2"/>
          <a:stretch/>
        </p:blipFill>
        <p:spPr>
          <a:xfrm>
            <a:off x="285840" y="254160"/>
            <a:ext cx="2500200" cy="3968640"/>
          </a:xfrm>
          <a:prstGeom prst="rect">
            <a:avLst/>
          </a:prstGeom>
          <a:ln w="0">
            <a:noFill/>
          </a:ln>
        </p:spPr>
      </p:pic>
      <p:grpSp>
        <p:nvGrpSpPr>
          <p:cNvPr id="615" name="12 Flecha doblada"/>
          <p:cNvGrpSpPr/>
          <p:nvPr/>
        </p:nvGrpSpPr>
        <p:grpSpPr>
          <a:xfrm>
            <a:off x="2000160" y="2163600"/>
            <a:ext cx="1150920" cy="2146320"/>
            <a:chOff x="2000160" y="2163600"/>
            <a:chExt cx="1150920" cy="2146320"/>
          </a:xfrm>
        </p:grpSpPr>
        <p:pic>
          <p:nvPicPr>
            <p:cNvPr id="616" name="12 Flecha doblada" descr=""/>
            <p:cNvPicPr/>
            <p:nvPr/>
          </p:nvPicPr>
          <p:blipFill>
            <a:blip r:embed="rId3"/>
            <a:stretch/>
          </p:blipFill>
          <p:spPr>
            <a:xfrm>
              <a:off x="2000160" y="2163600"/>
              <a:ext cx="115092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5400000">
              <a:off x="1571760" y="2714760"/>
              <a:ext cx="20001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18" name="14 Conector recto de flecha" descr=""/>
          <p:cNvPicPr/>
          <p:nvPr/>
        </p:nvPicPr>
        <p:blipFill>
          <a:blip r:embed="rId4"/>
          <a:stretch/>
        </p:blipFill>
        <p:spPr>
          <a:xfrm>
            <a:off x="4359240" y="3444840"/>
            <a:ext cx="14446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4 Imagen" descr="3.png"/>
          <p:cNvPicPr/>
          <p:nvPr/>
        </p:nvPicPr>
        <p:blipFill>
          <a:blip r:embed="rId1"/>
          <a:stretch/>
        </p:blipFill>
        <p:spPr>
          <a:xfrm>
            <a:off x="214200" y="214200"/>
            <a:ext cx="3703680" cy="6072480"/>
          </a:xfrm>
          <a:prstGeom prst="rect">
            <a:avLst/>
          </a:prstGeom>
          <a:ln w="0">
            <a:noFill/>
          </a:ln>
        </p:spPr>
      </p:pic>
      <p:sp>
        <p:nvSpPr>
          <p:cNvPr id="620" name="6 CuadroTexto"/>
          <p:cNvSpPr/>
          <p:nvPr/>
        </p:nvSpPr>
        <p:spPr>
          <a:xfrm>
            <a:off x="4071960" y="1857240"/>
            <a:ext cx="47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n dependencia de la metodología que se elija sale el formulario correspondiente en el cual el especialista inserta los datos recopilados en el terreno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La imagen de la izquierda muestra el formulario correspondiente a la metodología de Cuest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5 Imagen" descr="5.png"/>
          <p:cNvPicPr/>
          <p:nvPr/>
        </p:nvPicPr>
        <p:blipFill>
          <a:blip r:embed="rId1"/>
          <a:stretch/>
        </p:blipFill>
        <p:spPr>
          <a:xfrm>
            <a:off x="214200" y="214200"/>
            <a:ext cx="3786480" cy="6062760"/>
          </a:xfrm>
          <a:prstGeom prst="rect">
            <a:avLst/>
          </a:prstGeom>
          <a:ln w="0">
            <a:noFill/>
          </a:ln>
        </p:spPr>
      </p:pic>
      <p:sp>
        <p:nvSpPr>
          <p:cNvPr id="622" name="8 CuadroTexto"/>
          <p:cNvSpPr/>
          <p:nvPr/>
        </p:nvSpPr>
        <p:spPr>
          <a:xfrm>
            <a:off x="4071960" y="219852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l formulario de la imagen corresponde a la metodología de Bieniawski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9 Imagen" descr="4.png"/>
          <p:cNvPicPr/>
          <p:nvPr/>
        </p:nvPicPr>
        <p:blipFill>
          <a:blip r:embed="rId1"/>
          <a:stretch/>
        </p:blipFill>
        <p:spPr>
          <a:xfrm>
            <a:off x="357120" y="285840"/>
            <a:ext cx="3722760" cy="5929200"/>
          </a:xfrm>
          <a:prstGeom prst="rect">
            <a:avLst/>
          </a:prstGeom>
          <a:ln w="0">
            <a:noFill/>
          </a:ln>
        </p:spPr>
      </p:pic>
      <p:sp>
        <p:nvSpPr>
          <p:cNvPr id="624" name="10 CuadroTexto"/>
          <p:cNvSpPr/>
          <p:nvPr/>
        </p:nvSpPr>
        <p:spPr>
          <a:xfrm>
            <a:off x="4286160" y="185724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El formulario de la imagen corresponde a la metodología de Bart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Una vez insertados los datos y presionado el botón de calcular se muestra una barra en la parte inferior de la pantalla con el valor calculado y la opción de ver un reporte con otros dato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4 Imagen" descr="6.png"/>
          <p:cNvPicPr/>
          <p:nvPr/>
        </p:nvPicPr>
        <p:blipFill>
          <a:blip r:embed="rId1"/>
          <a:stretch/>
        </p:blipFill>
        <p:spPr>
          <a:xfrm>
            <a:off x="285840" y="285840"/>
            <a:ext cx="3736800" cy="5929200"/>
          </a:xfrm>
          <a:prstGeom prst="rect">
            <a:avLst/>
          </a:prstGeom>
          <a:ln w="0">
            <a:noFill/>
          </a:ln>
        </p:spPr>
      </p:pic>
      <p:sp>
        <p:nvSpPr>
          <p:cNvPr id="626" name="5 CuadroTexto"/>
          <p:cNvSpPr/>
          <p:nvPr/>
        </p:nvSpPr>
        <p:spPr>
          <a:xfrm>
            <a:off x="4214880" y="114300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La barra presente en la parte inferior de la pantalla contiene el resultado de calcular la metodología, la clase a la que pertenece el macizo y la calidad, también da la opción de ver un reporte con otros datos, incluyendo la propuesta de sostenimiento, que es uno de los objetivos principales de aplicar una metodología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7" name="7 Flecha doblada"/>
          <p:cNvGrpSpPr/>
          <p:nvPr/>
        </p:nvGrpSpPr>
        <p:grpSpPr>
          <a:xfrm>
            <a:off x="3962520" y="4273560"/>
            <a:ext cx="884160" cy="2017800"/>
            <a:chOff x="3962520" y="4273560"/>
            <a:chExt cx="884160" cy="2017800"/>
          </a:xfrm>
        </p:grpSpPr>
        <p:pic>
          <p:nvPicPr>
            <p:cNvPr id="628" name="7 Flecha doblada" descr=""/>
            <p:cNvPicPr/>
            <p:nvPr/>
          </p:nvPicPr>
          <p:blipFill>
            <a:blip r:embed="rId2"/>
            <a:stretch/>
          </p:blipFill>
          <p:spPr>
            <a:xfrm>
              <a:off x="3962520" y="4273560"/>
              <a:ext cx="8841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 rot="10800000">
              <a:off x="4032360" y="4319640"/>
              <a:ext cx="753840" cy="18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7 Imagen" descr="7.png"/>
          <p:cNvPicPr/>
          <p:nvPr/>
        </p:nvPicPr>
        <p:blipFill>
          <a:blip r:embed="rId1"/>
          <a:stretch/>
        </p:blipFill>
        <p:spPr>
          <a:xfrm>
            <a:off x="285840" y="285840"/>
            <a:ext cx="3728880" cy="5929200"/>
          </a:xfrm>
          <a:prstGeom prst="rect">
            <a:avLst/>
          </a:prstGeom>
          <a:ln w="0">
            <a:noFill/>
          </a:ln>
        </p:spPr>
      </p:pic>
      <p:sp>
        <p:nvSpPr>
          <p:cNvPr id="631" name="8 CuadroTexto"/>
          <p:cNvSpPr/>
          <p:nvPr/>
        </p:nvSpPr>
        <p:spPr>
          <a:xfrm>
            <a:off x="4214880" y="18032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La imagen corresponde a un reporte generado a partir del resultado de aplicar la metodología de Bieniawski, y da la opción de guardarlo una vez seleccionado el botón “GUARDAR</a:t>
            </a:r>
            <a:r>
              <a:rPr b="1" lang="en-US" sz="2000" spc="-1" strike="noStrike">
                <a:solidFill>
                  <a:srgbClr val="435e40"/>
                </a:solidFill>
                <a:latin typeface="Arial"/>
                <a:ea typeface="Arial"/>
              </a:rPr>
              <a:t>” </a:t>
            </a: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2 CuadroTexto"/>
          <p:cNvSpPr/>
          <p:nvPr/>
        </p:nvSpPr>
        <p:spPr>
          <a:xfrm>
            <a:off x="2428920" y="20559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35e40"/>
                </a:solidFill>
                <a:latin typeface="Arial"/>
                <a:ea typeface="Arial"/>
              </a:rPr>
              <a:t>GRACIAS!!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9T13:52:35Z</dcterms:created>
  <dc:creator>Wolf</dc:creator>
  <dc:description/>
  <dc:language>en-US</dc:language>
  <cp:lastModifiedBy>jandy</cp:lastModifiedBy>
  <dcterms:modified xsi:type="dcterms:W3CDTF">2016-07-05T01:23:18Z</dcterms:modified>
  <cp:revision>21</cp:revision>
  <dc:subject/>
  <dc:title>Presentación de PowerPoint</dc:title>
</cp:coreProperties>
</file>